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24A-6BCB-4D27-8C68-6DCC207D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287-BF29-4323-A945-FE0D9A4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715-197F-4997-B024-22064E35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E15-AA5D-4772-920F-939434B7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926-6CE2-4142-B9B4-75FD441A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92E-F365-491B-B746-D7AAC21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D20-0F2B-4491-ABC1-AF9ABD7B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578-0710-493F-BA73-9846AA8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F1E-D7AB-4A09-B80F-D08DB1CF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965-9846-4C3F-B78A-754F29CB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DAF-1F18-427E-8E4D-11E87D0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D54-96CC-49FE-AF42-4D84305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319-1374-41CD-80BB-BFCD13331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6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8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0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3736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the Beginning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ta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atural Selec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ylogenies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chanisms of Evo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hanges in 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definition of mu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hange in D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 JEAPOR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wish to wag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79880" y="2765520"/>
            <a:ext cx="23065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rm for mutations that occur sperm and eg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germ-line mu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ing problem and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auses of mu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atic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, descent with mod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mutations NOT found in game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s are not planned, instead the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rand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cess by which organisms have offspring with more favorable character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DIFFERENTIAL REPRODU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a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hip that Darwin travele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MT"/>
              </a:rPr>
              <a:t>The genetic transmission of characteristics from parent to off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red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looking at 2 trai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e that is visi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pheno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= Differential Reproduction + heredity +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epresented at the bottom of a phylogenetic tree (cladogra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mmon ances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vent that causes a branching of a line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peciation ev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28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 for the group of organisms represented by the green tri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3666960" cy="231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71800" y="2438280"/>
            <a:ext cx="190512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505320"/>
            <a:ext cx="1752480" cy="1218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32004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l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scendents within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ge are found at this location on the clad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entral idea of evolution is that all life on Earth shares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top of the tree/cladogr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osest relative to the bonob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471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himpanz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mmon ances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scale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icro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ary relationships are represented on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ladogr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8:02:20Z</dcterms:created>
  <dc:creator>Ashlee Logan</dc:creator>
  <dc:description/>
  <dc:language>en-US</dc:language>
  <cp:lastModifiedBy>Paula Taylor</cp:lastModifiedBy>
  <dcterms:modified xsi:type="dcterms:W3CDTF">2007-12-02T17:49:01Z</dcterms:modified>
  <cp:revision>6</cp:revision>
  <dc:subject/>
  <dc:title>JEOPARDY</dc:title>
</cp:coreProperties>
</file>